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A5C-7C64-45A0-9EEA-D54C2CA9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25C-C3A9-4E87-BD4A-3339DA04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A72-3CB5-4BA4-9506-0C22605C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53A7-E6A2-4A61-AE32-778D4216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674D-8A26-4032-984F-69FF8E2E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29B-DE2F-4956-9FDA-A2206EA2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BF4-3493-4259-8F6B-47B044C8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59B-D4DF-443C-8994-824B5D1C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32D-8A58-441B-852A-44E3C087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39A-FA3A-4DE9-841E-F7059220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882-E25E-4B3E-BED6-B8057BB8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5EC2-0133-4E41-B30B-7D909980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4A6F-6EBC-4D1F-BA57-AFDDD8C52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Garamond"/>
              </a:rPr>
              <a:t>Using Area Models for F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The following presentation will teach you how to build area models with AlgeBlocks to multiply binom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sing Area Models for FOI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257440" y="3505320"/>
            <a:ext cx="2819160" cy="2819160"/>
            <a:chOff x="5257440" y="3505320"/>
            <a:chExt cx="2819160" cy="2819160"/>
          </a:xfrm>
        </p:grpSpPr>
        <p:sp>
          <p:nvSpPr>
            <p:cNvPr id="44" name=""/>
            <p:cNvSpPr/>
            <p:nvPr/>
          </p:nvSpPr>
          <p:spPr>
            <a:xfrm>
              <a:off x="5257800" y="35053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5257440" y="3505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762120" y="304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Let’s look at an easy problem. Here is how we would make an area model for (x + 2) (x + 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501156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one of your dimensions down this side. Make sure you start i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49568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3276720"/>
            <a:ext cx="304560" cy="3045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6160" y="91440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(x + 2) and (x + 3) are the factors in our problem. They are also the dimensions (length and width) of our area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152388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the other dimension down this side. Again, make sure to start i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4876560" y="2133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981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Now we are ready to model the area. The students will need to determine which blocks fit perfectly in th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5867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So, the area is 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5x + 6. Back to our original problem: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(x + 2) (x + 3) = 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5x +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952880" y="3505320"/>
            <a:ext cx="301680" cy="1977840"/>
            <a:chOff x="4952880" y="3505320"/>
            <a:chExt cx="301680" cy="1977840"/>
          </a:xfrm>
        </p:grpSpPr>
        <p:sp>
          <p:nvSpPr>
            <p:cNvPr id="56" name=""/>
            <p:cNvSpPr/>
            <p:nvPr/>
          </p:nvSpPr>
          <p:spPr>
            <a:xfrm>
              <a:off x="495288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52880" y="48769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52880" y="51814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257800" y="3195720"/>
            <a:ext cx="2282760" cy="306360"/>
            <a:chOff x="5257800" y="3195720"/>
            <a:chExt cx="2282760" cy="306360"/>
          </a:xfrm>
        </p:grpSpPr>
        <p:sp>
          <p:nvSpPr>
            <p:cNvPr id="60" name=""/>
            <p:cNvSpPr/>
            <p:nvPr/>
          </p:nvSpPr>
          <p:spPr>
            <a:xfrm rot="5400000">
              <a:off x="5792760" y="266544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8880" y="31957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3432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940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257800" y="3505320"/>
            <a:ext cx="2282760" cy="1977840"/>
            <a:chOff x="5257800" y="3505320"/>
            <a:chExt cx="2282760" cy="1977840"/>
          </a:xfrm>
        </p:grpSpPr>
        <p:sp>
          <p:nvSpPr>
            <p:cNvPr id="65" name=""/>
            <p:cNvSpPr/>
            <p:nvPr/>
          </p:nvSpPr>
          <p:spPr>
            <a:xfrm>
              <a:off x="5257800" y="3505320"/>
              <a:ext cx="137160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3432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888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5792760" y="434196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5792760" y="46465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29400" y="48769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34320" y="48769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38880" y="48769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29400" y="51814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34320" y="51814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38880" y="51814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sing Area Models for FOI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5257440" y="3505320"/>
            <a:ext cx="2819160" cy="2819160"/>
            <a:chOff x="5257440" y="3505320"/>
            <a:chExt cx="2819160" cy="2819160"/>
          </a:xfrm>
        </p:grpSpPr>
        <p:sp>
          <p:nvSpPr>
            <p:cNvPr id="78" name=""/>
            <p:cNvSpPr/>
            <p:nvPr/>
          </p:nvSpPr>
          <p:spPr>
            <a:xfrm>
              <a:off x="5257800" y="35053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5257440" y="3505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62120" y="3049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Now let’s try the following problem: (2x + 3)(x + 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472428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one of your dimensions down this side. Make sure you start i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419112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3276720"/>
            <a:ext cx="304560" cy="3045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6160" y="91440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(2x + 3) and (x + 4) are the factors in our problem. They are also the dimensions (length and width) of our area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152388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the other dimension down this side. Again, make sure to start i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4876560" y="2133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981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Now we are ready to model the area. The students will need to determine which blocks fit perfectly in th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6095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So, the area is 2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11x + 12. Back to our original problem: (2x + 3) (x + 4) = 2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11x +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880" y="3505320"/>
            <a:ext cx="301680" cy="2587680"/>
            <a:chOff x="4952880" y="3505320"/>
            <a:chExt cx="301680" cy="2587680"/>
          </a:xfrm>
        </p:grpSpPr>
        <p:grpSp>
          <p:nvGrpSpPr>
            <p:cNvPr id="90" name=""/>
            <p:cNvGrpSpPr/>
            <p:nvPr/>
          </p:nvGrpSpPr>
          <p:grpSpPr>
            <a:xfrm>
              <a:off x="4952880" y="3505320"/>
              <a:ext cx="301680" cy="1977840"/>
              <a:chOff x="4952880" y="3505320"/>
              <a:chExt cx="301680" cy="1977840"/>
            </a:xfrm>
          </p:grpSpPr>
          <p:sp>
            <p:nvSpPr>
              <p:cNvPr id="91" name=""/>
              <p:cNvSpPr/>
              <p:nvPr/>
            </p:nvSpPr>
            <p:spPr>
              <a:xfrm>
                <a:off x="4952880" y="350532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52880" y="4876920"/>
                <a:ext cx="301680" cy="301680"/>
              </a:xfrm>
              <a:prstGeom prst="rect">
                <a:avLst/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52880" y="5181480"/>
                <a:ext cx="301680" cy="301680"/>
              </a:xfrm>
              <a:prstGeom prst="rect">
                <a:avLst/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952880" y="5486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52880" y="57913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257800" y="3200400"/>
            <a:ext cx="3654360" cy="301680"/>
            <a:chOff x="5257800" y="3200400"/>
            <a:chExt cx="3654360" cy="301680"/>
          </a:xfrm>
        </p:grpSpPr>
        <p:sp>
          <p:nvSpPr>
            <p:cNvPr id="97" name=""/>
            <p:cNvSpPr/>
            <p:nvPr/>
          </p:nvSpPr>
          <p:spPr>
            <a:xfrm rot="5400000">
              <a:off x="5792760" y="266544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0592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1048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100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7164360" y="266544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257800" y="3505320"/>
            <a:ext cx="3654360" cy="2587680"/>
            <a:chOff x="5257800" y="3505320"/>
            <a:chExt cx="3654360" cy="2587680"/>
          </a:xfrm>
        </p:grpSpPr>
        <p:sp>
          <p:nvSpPr>
            <p:cNvPr id="103" name=""/>
            <p:cNvSpPr/>
            <p:nvPr/>
          </p:nvSpPr>
          <p:spPr>
            <a:xfrm>
              <a:off x="830592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257800" y="3505320"/>
              <a:ext cx="3654360" cy="2587680"/>
              <a:chOff x="5257800" y="3505320"/>
              <a:chExt cx="3654360" cy="2587680"/>
            </a:xfrm>
          </p:grpSpPr>
          <p:sp>
            <p:nvSpPr>
              <p:cNvPr id="105" name=""/>
              <p:cNvSpPr/>
              <p:nvPr/>
            </p:nvSpPr>
            <p:spPr>
              <a:xfrm>
                <a:off x="5257800" y="3505320"/>
                <a:ext cx="137160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01000" y="350532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610480" y="350532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400000">
                <a:off x="5792760" y="434196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5792760" y="464652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8001000" y="4876920"/>
                <a:ext cx="911160" cy="606240"/>
                <a:chOff x="8001000" y="4876920"/>
                <a:chExt cx="911160" cy="6062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8610480" y="487692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001000" y="487692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305920" y="518148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610480" y="518148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01000" y="518148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305920" y="487692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6629400" y="3505320"/>
                <a:ext cx="137160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5400000">
                <a:off x="5792760" y="495144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5792760" y="525636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5400000">
                <a:off x="7164360" y="434196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5400000">
                <a:off x="7164360" y="464652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400000">
                <a:off x="7164360" y="495144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400000">
                <a:off x="7164360" y="525636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8001000" y="5486400"/>
                <a:ext cx="911160" cy="606240"/>
                <a:chOff x="8001000" y="5486400"/>
                <a:chExt cx="911160" cy="6062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8610480" y="548640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001000" y="548640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305920" y="579096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10480" y="579096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001000" y="579096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305920" y="548640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sing Area Models for FOI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9:39:53Z</dcterms:created>
  <dc:creator>Mary</dc:creator>
  <dc:description/>
  <dc:language>en-US</dc:language>
  <cp:lastModifiedBy>Mary</cp:lastModifiedBy>
  <dcterms:modified xsi:type="dcterms:W3CDTF">2008-07-22T20:09:17Z</dcterms:modified>
  <cp:revision>3</cp:revision>
  <dc:subject/>
  <dc:title>Slide 1</dc:title>
</cp:coreProperties>
</file>